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65D-0296-44F7-AD61-FF762ED7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964-57CC-4459-AB1D-08D06429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3D5-DAD5-4861-AED8-D711D76E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883-2566-4009-A3FF-4A3BE911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FED-7618-49C5-A1EF-53EDEF11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6D4-54B0-458C-B8A2-9219928A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527-7620-4C06-8D50-89863CBF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D93-6EFA-4F7E-AF47-8D96FE1A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351-035E-4F6B-8BED-84C77549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0D9-12B7-4C88-BD80-CAD6A2B3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D33-7E86-4C74-B5E7-EAA9A178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968-47B1-4FD2-8A95-DF513536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97DB-B0A1-4B6F-8D36-FFAB5208B03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skill_strategy_jan06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Skill Strateg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HE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2.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3A4-D6EC-48EE-92EE-ED9273238A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43280" y="234936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&amp;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e &amp; custom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 &amp; main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321480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fine integration strategy, derive coniguration set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nable daily bui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toamate config &amp; 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407988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 test case definition and collaboration with CPM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tomate testing, optimize/maximize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crease defect resolution cycle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94496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 (with TPM‘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anagement &amp; suppli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sk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581040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support and toolk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ools introduction, methodology and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educ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148428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fine, evaluate, prototype, re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eeze, train &amp; roll-out (methodology, API‘s, toolkits, wizar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ntor, support, control standard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a0e66"/>
                </a:solidFill>
                <a:latin typeface="Minion"/>
              </a:rPr>
              <a:t>PHE RD Skillset Decomposition: Think BiC* 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539640" y="1125360"/>
            <a:ext cx="20163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st-in-Class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1700280"/>
            <a:ext cx="20178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2590920"/>
            <a:ext cx="201600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oftware (HW, M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48156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437184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ystem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526248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615312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41240" y="10526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*BiC = Best-in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45908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2881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6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278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184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B9E-F89B-4013-887F-70BE1BD305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907920"/>
            <a:ext cx="4176720" cy="5172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, Contract,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1052640"/>
            <a:ext cx="4032360" cy="4634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HE RD Software Skill Needs Aligned to Product Lay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00000" y="112536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655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2060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78936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417528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, middleware, 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56264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 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496728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,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675360" y="3636000"/>
            <a:ext cx="2808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Frameworks,Com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2492280"/>
            <a:ext cx="108108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2720" y="249228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,D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2492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6480" y="16002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981000"/>
            <a:ext cx="3960720" cy="153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ore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annot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be outsourced or off-sh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lustered in very few locations (MUC, KLF: platform rela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st be brilliant people; can be exp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2473200"/>
            <a:ext cx="3960720" cy="24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Basic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x of experienced staff and new university h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n be balanced between hi-lo cos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hould be organized in clusters of compet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upport staff for special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292640"/>
            <a:ext cx="3960720" cy="179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Support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own basis on each CoC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0% for software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0% staff can be lo-cost, lo(wer) s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% - 30% external resources for peak sit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357720"/>
            <a:ext cx="22320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elephony, audio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7E9-12B2-4ABE-961E-24AC2B2669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6227640" y="1125360"/>
            <a:ext cx="216072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298920" y="1125360"/>
            <a:ext cx="216036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Possibiliti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V="1">
            <a:off x="1403280" y="97956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59482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1268280"/>
            <a:ext cx="2376360" cy="4199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0836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838680" y="1197000"/>
            <a:ext cx="3830400" cy="4248000"/>
            <a:chOff x="3838680" y="1197000"/>
            <a:chExt cx="3830400" cy="4248000"/>
          </a:xfrm>
        </p:grpSpPr>
        <p:sp>
          <p:nvSpPr>
            <p:cNvPr id="97" name=""/>
            <p:cNvSpPr/>
            <p:nvPr/>
          </p:nvSpPr>
          <p:spPr>
            <a:xfrm>
              <a:off x="3924360" y="1197000"/>
              <a:ext cx="3744720" cy="424800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8680" y="54324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995640" y="1268280"/>
              <a:ext cx="3672000" cy="41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403280" y="313992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32640" y="59720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8472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6444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7320" y="20131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800" y="4159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31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6640" y="5942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11480" y="59421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5111640"/>
            <a:ext cx="2376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4076640"/>
            <a:ext cx="3384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3213000"/>
            <a:ext cx="1511280" cy="9464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3498840"/>
            <a:ext cx="1440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924280"/>
            <a:ext cx="15112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4467240"/>
            <a:ext cx="2232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ameworks, Compon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5516640"/>
            <a:ext cx="2952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&amp; Contract &amp;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981000"/>
            <a:ext cx="216072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1773360"/>
            <a:ext cx="1584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5280" y="1773360"/>
            <a:ext cx="108108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256536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VB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716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l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11970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841-7BA2-434A-86D9-C23AF7BBB0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Strateg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522360" y="660600"/>
            <a:ext cx="2178000" cy="2912400"/>
            <a:chOff x="522360" y="660600"/>
            <a:chExt cx="2178000" cy="2912400"/>
          </a:xfrm>
        </p:grpSpPr>
        <p:sp>
          <p:nvSpPr>
            <p:cNvPr id="125" name=""/>
            <p:cNvSpPr/>
            <p:nvPr/>
          </p:nvSpPr>
          <p:spPr>
            <a:xfrm>
              <a:off x="53964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92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98240" y="81900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30744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64116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64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64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4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64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64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44000" y="1268280"/>
            <a:ext cx="9853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va 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114720" y="660600"/>
            <a:ext cx="2178000" cy="2912400"/>
            <a:chOff x="3114720" y="660600"/>
            <a:chExt cx="2178000" cy="2912400"/>
          </a:xfrm>
        </p:grpSpPr>
        <p:sp>
          <p:nvSpPr>
            <p:cNvPr id="141" name=""/>
            <p:cNvSpPr/>
            <p:nvPr/>
          </p:nvSpPr>
          <p:spPr>
            <a:xfrm>
              <a:off x="313200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3200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1964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836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38680" y="8888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RO f. K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289980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323352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3200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200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3200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3200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200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200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606120" y="1268280"/>
            <a:ext cx="173520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5520" y="1268280"/>
            <a:ext cx="28296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81120" y="1268280"/>
            <a:ext cx="38484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707080" y="660600"/>
            <a:ext cx="2214000" cy="2912400"/>
            <a:chOff x="5707080" y="660600"/>
            <a:chExt cx="2214000" cy="2912400"/>
          </a:xfrm>
        </p:grpSpPr>
        <p:sp>
          <p:nvSpPr>
            <p:cNvPr id="159" name=""/>
            <p:cNvSpPr/>
            <p:nvPr/>
          </p:nvSpPr>
          <p:spPr>
            <a:xfrm>
              <a:off x="572436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2436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200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0072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28160" y="888840"/>
              <a:ext cx="149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RO f. M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549216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582588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2436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2436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2436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2436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2436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198480" y="1268280"/>
            <a:ext cx="173520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+ 65 extern (ne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9960" y="1268280"/>
            <a:ext cx="38484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22360" y="1268280"/>
            <a:ext cx="48708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722760"/>
            <a:ext cx="216072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2591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408480" y="3722760"/>
            <a:ext cx="2880" cy="30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0440" y="372276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9200" y="3772080"/>
            <a:ext cx="10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891880" y="3828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3225600" y="3922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56595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595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6440" y="3722760"/>
            <a:ext cx="2160720" cy="30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6440" y="42591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04080" y="372276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79840" y="3722760"/>
            <a:ext cx="12600" cy="30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29600" y="3772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5484240" y="3828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5817960" y="3922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644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644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644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644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6440" y="56595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6440" y="595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6440" y="624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22360" y="3613320"/>
            <a:ext cx="2178000" cy="2912400"/>
            <a:chOff x="522360" y="3613320"/>
            <a:chExt cx="2178000" cy="2912400"/>
          </a:xfrm>
        </p:grpSpPr>
        <p:sp>
          <p:nvSpPr>
            <p:cNvPr id="205" name=""/>
            <p:cNvSpPr/>
            <p:nvPr/>
          </p:nvSpPr>
          <p:spPr>
            <a:xfrm>
              <a:off x="539640" y="372240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9640" y="42591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7280" y="37224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16000" y="37224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520" y="377172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   </a:t>
              </a: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YS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307440" y="382824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641160" y="39225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9640" y="45100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640" y="479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508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9640" y="537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9640" y="565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9640" y="59497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9640" y="62402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82080" y="4221000"/>
            <a:ext cx="13312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7120" y="4251240"/>
            <a:ext cx="18752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2520" y="1268280"/>
            <a:ext cx="384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03200" y="429264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66720" y="428616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422100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4080" y="4221000"/>
            <a:ext cx="3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16400" y="4254480"/>
            <a:ext cx="18752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FF0-2761-47C2-8113-B05B858403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HE RD: Hiring Tac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In MUC, KLF, WRO, MAO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ternal bonus for everyone bringing a good hire (1/2 monthly pay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Condition: new hire must still be employed 7 months after hiring d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General skill transition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crease number of staff with informatics degrees (vs. Engineering degree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ides online advertising (e.g. Monster), utilize classic media like VDI Nachrichten, ct, oth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Immediate Focu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Hire </a:t>
            </a:r>
            <a:r>
              <a:rPr b="0" lang="de-DE" sz="2000" spc="-1" strike="noStrike" u="sng">
                <a:solidFill>
                  <a:srgbClr val="3a0e66"/>
                </a:solidFill>
                <a:uFillTx/>
                <a:latin typeface="Minion"/>
              </a:rPr>
              <a:t>xxx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architects, </a:t>
            </a:r>
            <a:r>
              <a:rPr b="0" lang="de-DE" sz="2000" spc="-1" strike="noStrike" u="sng">
                <a:solidFill>
                  <a:srgbClr val="3a0e66"/>
                </a:solidFill>
                <a:uFillTx/>
                <a:latin typeface="Minion"/>
              </a:rPr>
              <a:t>yyy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project mgrs,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Win back into RD key people from CM organization and other places that aren‘t directly contributing to the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C5F-2E63-4A6B-BBB3-078529DEDE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24T11:17:51Z</dcterms:modified>
  <cp:revision>92</cp:revision>
  <dc:subject/>
  <dc:title>PowerPoint 簡報</dc:title>
</cp:coreProperties>
</file>